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780-584B-4434-9E4C-D4ACE26E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56E-D497-4E6F-B46E-9B49FCC8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271-693F-4F82-89E7-B85E5313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C54-ADA2-4A96-9CB9-363F0013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C4F8-8EE8-4F46-BC3D-DCE99B82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B715-42B1-4B95-9E72-BC823558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F1CA-5EB3-4FE2-B2D0-1B79E854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DAF3-FFBF-4CEF-A662-1AD4C29A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29ED-50EF-4661-AD46-A168B01F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8167-F118-4AF6-83E6-4BE68EDF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E611-E522-4FDE-88FD-3D96BD8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75C-6011-4B17-B6FE-F63D5115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5FF2-0ACF-48E2-B172-3D345D92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E385-3F8E-4D66-8328-FDE7BF1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9257-12B3-4627-B04B-BDF5287E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7041-7F7A-46FE-9E2B-E295D77A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3C59-6FE9-4538-B9B2-49182D46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6B2-3224-4464-96DE-6A30332E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D46-ECE8-4881-9543-32503267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A89-7DA8-42ED-8726-1EED5AA0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08D-00F7-4DBE-95A4-43ED480C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027-1E31-4637-8340-31028A8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ACC-5380-4662-8744-75EB8141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6A9-A5D9-4929-9E62-64812893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9311-D2F1-4599-B9F1-FEE89D7B727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96D1-6CDA-4B24-B9DC-4D5FD4758A3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rovnání oficiálních Internetových stránek světových metropol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lastní vyhledava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ěž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íčová slova, výraz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ooleovské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šířené (Turín, Amsterdam, 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oximitní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avo/levostranné rozšíř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matické skloňování/časová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saur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12D-002A-4A7A-9A82-E21C901876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žnost konta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mail na osobní odděl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ontakty na úředníky, volené zástup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pravený formulá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asto jen na správce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ečně jen klasická pošta (Osl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645-7E2E-4766-AAD5-872157A253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Grafický vzhl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zajímavějš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méně povede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ělení do sek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735-1612-40FD-B0A7-382E1D3822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dkazy na jiné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FB7-F427-4B8E-A952-5A1D16134E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e a správa strán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chnolog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elká variabilita (DHTML, Java Script, CSS, ASP, CGI, PHP, Perl, Flas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ráva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ho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D12-6D7D-4D29-971A-E379A8E5E6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ávěrečné zhodnoc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2057400"/>
          <a:ext cx="741996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4199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CF3-0590-4781-9B28-2C4E94CDBC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zký 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o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běr mě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rčení oficiální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novení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hodnoc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věrečné srovná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B84-33D9-431B-9B0B-21F193EBDC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msterd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rland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sl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ockhol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urí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7C8-FCF2-41E6-A415-CE0DA6DDA8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jiné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A78-B6E4-41CF-AD45-60A9216B2D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Jazykové verz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rodní jazyk + anglič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 (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urín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ockholm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 (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ůzný obsah (zejména pro obyvate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133-C676-44F0-9045-3EF33AF6A0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ruhy poskytovaných informac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yvatelé města, návštěvníci a podnik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íly v informacích pro podnikatele a stude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ždy informace pro obyvatele (Orland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B80-53A7-4A7C-944F-7313A3268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dkazy na jiné strá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řejné instituce (ambasády, konzuláty, kulturní instituc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nceláře cestovního ruch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prava (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životní prostřed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čas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hotely a restaur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941-A37D-4888-AE40-72A662F0B9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n-line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ětšinou nízká úrove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ěstský časop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úřední formuláře ke staž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hledn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vání v matrikách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ísto na parkování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51A-896A-465F-A1D2-B25BAE3512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lán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mezená funkč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, odkaz, chy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ní stanic met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stitu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amátek, parky a zahra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škol, sportovní areá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B45-FDC8-4781-8C43-C391306E62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1-01-19T07:12:12Z</dcterms:modified>
  <cp:revision>16</cp:revision>
  <dc:subject/>
  <dc:title>Studie o možnostech využití Internetu pro prezentaci hl.m. Prahy</dc:title>
</cp:coreProperties>
</file>